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ACA-05FE-47D3-B73D-D13E394B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0DF-FF5F-4334-887C-C926DCC2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BBF-B807-4FD8-9CCD-042CB0D5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4E4-1CB2-4E28-8390-CAC6DE1B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B9EA-AD89-4177-8DE8-739686EA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3923-24AC-4A6A-A0A6-C8244664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126D-79D3-4CBC-9BF6-B28C5D4A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0623-3276-4CC4-B973-3EB48FD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BB84-8125-4C68-B27B-2C84C1E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190D-CF05-42EC-8E11-A51267D9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AFE3-5FF5-4908-B4CE-30A10B8D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18C-EBE6-4362-B192-A8407D85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816F-113E-4D82-86B8-B403E90E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0B0E-A516-40B9-8FD1-E2AA3F1D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0D7D-7C26-45B3-B87B-7A61D89F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B7AB-6AF9-4AF7-994C-F1B53230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F74F-25BE-4C7E-9E2C-53FD369B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A5D-83B0-4E92-9166-4C0F8DB9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C99-37A5-488D-B6BC-FD2C8437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A34-0960-476A-AFD7-5C07F0CD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F1F-B0B1-4610-AEB3-2DE2D0BF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D16-FAAE-4D44-86DA-F301628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CB2-E389-4457-B016-114EF931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5C7-52F4-41B5-9EF1-B32CBF9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5D86-8A4E-4104-AB82-7749CF2D66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7E06-F9A8-46EA-9746-FCED38FEFA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22-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17:1 – 18: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ijah the Tishbi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1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jah's message to Ahab concerning the three years' drought, v.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ommanded to go to the brook Cherith; where he is fed by ravens, v. 2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fterward goes to a widow's house at Zarephath, and miraculously multiplies her meal and oil, v. 8-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son dies, and Elijah restores him to life, v. 17-2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90920" y="380880"/>
            <a:ext cx="3657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ces of No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4572000"/>
            <a:ext cx="914400" cy="609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048120"/>
            <a:ext cx="14475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438960" y="0"/>
            <a:ext cx="2705040" cy="2619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7772400" y="6858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5246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81280" y="152280"/>
            <a:ext cx="43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shon brook and valley from Mt Car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685800"/>
            <a:ext cx="1295280" cy="83808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5246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0" y="41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shon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361960" y="1219320"/>
            <a:ext cx="1600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553440" cy="524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5680" y="556560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t. Carmel and Mediterranean from 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8800" y="837720"/>
            <a:ext cx="144792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ijah Ready to Face Aha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jah is commanded by the Lord to show himself to Ahab, v. 1-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ab, and Obadiah his steward, search the land to find grass for the cattle, v. 3-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adiah meets Elijah, who commands him to inform Ahab that he is ready to present himself before him, v. 7-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jah and Ahab meet, v. 16-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Elijah Challenges Ahab and Baa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jah Challenges  the 450 priests of Baal   v. 19-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posal is accepted, and the priests of Baal call in vain upon their god through the whole day   v. 25-2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Confirms By Fire His Relation to Elij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ople acknowledge Yahweh to be the true God, and kill all the prophets of Baal   v. 30-4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jah promises Ahab that there shall be immediate rain; it comes accordingly, and Ahab and Elijah come to Jezreel  v. 41-4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7010280" cy="678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10080" y="64771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029200"/>
            <a:ext cx="2590920" cy="1143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160020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ijah runs before Ahab to the entrance of Jezr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1:36:28Z</dcterms:created>
  <dc:creator>Terry W. Benton</dc:creator>
  <dc:description/>
  <dc:language>en-US</dc:language>
  <cp:lastModifiedBy>Frank D Vines</cp:lastModifiedBy>
  <dcterms:modified xsi:type="dcterms:W3CDTF">2006-05-01T22:30:23Z</dcterms:modified>
  <cp:revision>2</cp:revision>
  <dc:subject/>
  <dc:title>Till There Was No Remedy (The Divided Kingdom)</dc:title>
</cp:coreProperties>
</file>